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31475-9F32-4F53-898D-E49DED4025A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F45D2-ABB3-4417-A7E9-6915CF39443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5AFE-9A6E-49EF-A43A-1F14027F6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47CD-85BF-4D66-9956-B02008F87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7346-12FC-4ABF-8650-ADBB5E372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4B35-977E-4B7D-B521-A29282DC9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06914-3630-41F1-ADFF-DC54484D2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CA451-D4DA-4154-B03F-0364414B6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B54A0-013F-4EC0-B83A-998B2F14A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C7144-7C45-43D4-8099-53E383A2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FEC44-F01B-4126-BE77-AF6150BBA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D1ED6-690F-4425-9367-39F7BECA4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083B8-AC86-489A-8294-B2D53FE5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79D3-DD6B-4880-BA7B-83D5428B6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CAAB6-06F1-4D56-88A2-A652AE9F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6210C-266B-482F-86FC-E1F44B53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19295-534A-4E91-8A6E-9E60BBC09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5C0B1-8551-46EA-97C3-70BAAFB47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9DCC3-B025-45E1-ABD2-7D78FAE22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531FA-3789-4302-A60F-678B09673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46D4C-4905-43B2-998F-5DE3903A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2B140-A9FB-43A1-98C7-41109076B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28CD2-0FEA-4207-9234-384CE1BCE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DF54C-E5A0-4F23-9262-3A8614F94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C81B-4ABF-4A9C-A818-1A91B271D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B1FAF-43E1-4DD1-9911-8C523434F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963C1-3CCB-4354-9AA4-F4327999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669F9-45E1-41EA-88D5-D17579B4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25D1A-F9CE-48F8-AA4D-CCCDECE8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37E4A-3452-47ED-81C5-7A16C8CE3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A3C63-082F-4BAA-93E3-57CA4AEBC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99622-4350-43F9-B98E-4E335A9FE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AD7B4-EE04-4920-AE72-DCDCB813F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80DD9-B8B1-48AF-B2A7-1B6488A7C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58968-C5F4-4DA3-9DA8-4B708A724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9FF4-D8C3-4FE5-AD6B-A954224CA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5AA39-9E1F-44BA-A2FC-F46EE9243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637D7-FD82-4572-A77E-33D026A6B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3C290-EA8E-4C8F-9D1F-948EB1A62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42803-2831-4D92-BF85-67D98E12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06BAB-9204-4F3A-B8D7-D706BDFB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130B9-5D02-4C4D-95A2-163D6DE6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2D250-FE40-4B72-93E3-20D010502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DED3B-540E-4BFA-8903-EE5D424CD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B17DC-0C84-4D25-985F-3AEC29787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744AF-A00E-485D-9B98-7ED4165F6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86B3-966C-48F2-87B6-5A836FA5B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74F04-EAC2-4CA6-B996-145931856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CCF04-5F30-43F1-A38C-015AE70B9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5D754-E5F3-472B-B46F-9FD9566DE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2B58A-50BF-4572-A57C-CDE66D16E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65B8E-52DC-4460-B7FF-BD179546D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BFFE9-949F-40CF-887F-3D615ECF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D0EDC-78FA-4399-B604-A296A8A8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04353-38BB-482B-A2BD-E437D2A1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07D21-B947-444C-9F37-A20CC0BB1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00777-6FE2-4B27-80A0-6D2FCC02E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B432-C143-4517-AA79-B668D77CB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521698-5525-410C-985C-7F7053580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DB1F-81D2-417A-B6A0-DE8BF362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5906-4E42-4AED-9C62-E993BCA0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D8B9-BF8F-4DFD-A094-7F0C05C1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E0F21-146C-445D-8A37-94BAF09AFD8A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46243-53EA-43E4-9DAB-96B7F58D86B1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5CDE6-FCFA-483E-9384-F85FD880280D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9F7A9-3348-470D-AF6C-C1B3831130FF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2702B-F3CF-45DE-9A8E-F8A01C6BA0AE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3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400720" cy="28782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2142720" y="3886200"/>
            <a:ext cx="671508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Bernard MT Condensed"/>
              </a:rPr>
              <a:t>Лаевская Н.Л., Белопашенцева И.В., Дьяконова В.В.,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Bernard MT Condensed"/>
              </a:rPr>
              <a:t>Залецкая Н.Н., </a:t>
            </a:r>
            <a:r>
              <a:rPr b="0" lang="ru-RU" sz="1400" spc="-1" strike="noStrike">
                <a:solidFill>
                  <a:srgbClr val="ffffff"/>
                </a:solidFill>
                <a:latin typeface="Trebuchet MS"/>
              </a:rPr>
              <a:t>Сапелкина И.И.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rebuchet MS"/>
              </a:rPr>
              <a:t> МБДОУ  №548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4214880" cy="31608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" descr=""/>
          <p:cNvPicPr/>
          <p:nvPr/>
        </p:nvPicPr>
        <p:blipFill>
          <a:blip r:embed="rId2"/>
          <a:stretch/>
        </p:blipFill>
        <p:spPr>
          <a:xfrm>
            <a:off x="3500280" y="2714760"/>
            <a:ext cx="485784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"/>
          <p:cNvSpPr/>
          <p:nvPr/>
        </p:nvSpPr>
        <p:spPr>
          <a:xfrm>
            <a:off x="357120" y="241560"/>
            <a:ext cx="7643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В концепции воспитания основанной на Волновой технологии (автор Кузнецова Н.А.) говорится о единой волновой природе мира, человека и процессов его жизнедеятель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Это позволяет рассматривать процессы воспитания, образования и оздоровлен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 человека с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 позиции явления резонанса в его положительном (созидательном)  проявлении, создавать и осуществлять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эффективные способы коррекции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 деструктивного поведения , гармонизаци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 психологического и физического состояния, профилактики профдеформации и профвыгорания специалистов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Благодар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 применению метода Кузнецовой Н.А. визуализации абстрактных понятий осуществляется настройка субъектов на единые гармоничные опорные образы Нормы, формируется единое образовательное пространство на духовно-нравственных и здоровьсберегающих принципах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4" descr=""/>
          <p:cNvPicPr/>
          <p:nvPr/>
        </p:nvPicPr>
        <p:blipFill>
          <a:blip r:embed="rId1"/>
          <a:stretch/>
        </p:blipFill>
        <p:spPr>
          <a:xfrm>
            <a:off x="4000680" y="0"/>
            <a:ext cx="3571560" cy="35114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"/>
          <p:cNvPicPr/>
          <p:nvPr/>
        </p:nvPicPr>
        <p:blipFill>
          <a:blip r:embed="rId2"/>
          <a:stretch/>
        </p:blipFill>
        <p:spPr>
          <a:xfrm>
            <a:off x="3643200" y="3571920"/>
            <a:ext cx="4381560" cy="32860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"/>
          <p:cNvPicPr/>
          <p:nvPr/>
        </p:nvPicPr>
        <p:blipFill>
          <a:blip r:embed="rId3"/>
          <a:stretch/>
        </p:blipFill>
        <p:spPr>
          <a:xfrm>
            <a:off x="0" y="428760"/>
            <a:ext cx="34988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3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3286080" cy="21430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"/>
          <p:cNvPicPr/>
          <p:nvPr/>
        </p:nvPicPr>
        <p:blipFill>
          <a:blip r:embed="rId2"/>
          <a:stretch/>
        </p:blipFill>
        <p:spPr>
          <a:xfrm>
            <a:off x="4357800" y="428760"/>
            <a:ext cx="3103560" cy="20476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"/>
          <p:cNvPicPr/>
          <p:nvPr/>
        </p:nvPicPr>
        <p:blipFill>
          <a:blip r:embed="rId3"/>
          <a:stretch/>
        </p:blipFill>
        <p:spPr>
          <a:xfrm>
            <a:off x="571680" y="2928960"/>
            <a:ext cx="1914480" cy="23414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"/>
          <p:cNvPicPr/>
          <p:nvPr/>
        </p:nvPicPr>
        <p:blipFill>
          <a:blip r:embed="rId4"/>
          <a:stretch/>
        </p:blipFill>
        <p:spPr>
          <a:xfrm>
            <a:off x="3714840" y="3071880"/>
            <a:ext cx="314316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3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7802640" cy="49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7802640" cy="58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7802640" cy="58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D:\фото работа\пед технологии\DSCN349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564080" cy="42861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"/>
          <p:cNvPicPr/>
          <p:nvPr/>
        </p:nvPicPr>
        <p:blipFill>
          <a:blip r:embed="rId2"/>
          <a:stretch/>
        </p:blipFill>
        <p:spPr>
          <a:xfrm>
            <a:off x="3714840" y="3357720"/>
            <a:ext cx="438156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8T13:52:04Z</dcterms:created>
  <dc:creator>admin</dc:creator>
  <dc:description/>
  <dc:language>en-US</dc:language>
  <cp:lastModifiedBy>admin</cp:lastModifiedBy>
  <dcterms:modified xsi:type="dcterms:W3CDTF">2016-12-08T15:13:40Z</dcterms:modified>
  <cp:revision>8</cp:revision>
  <dc:subject/>
  <dc:title>Апробация волновой концепция воспитания Кузнецова Н.А. в коррекционной работе с детьми с ТНР.</dc:title>
</cp:coreProperties>
</file>